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6550"/>
        <c:axId val="45378097"/>
      </c:barChart>
      <c:catAx>
        <c:axId val="7406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78097"/>
        <c:crosses val="autoZero"/>
        <c:auto val="1"/>
        <c:lblAlgn val="ctr"/>
        <c:lblOffset val="100"/>
        <c:noMultiLvlLbl val="0"/>
      </c:catAx>
      <c:valAx>
        <c:axId val="45378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6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7F1-AEF2-42E9-93F3-E353A18B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554-3281-44E8-8A32-DE37504D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6ED-9BD6-4F84-8CCE-A909E0E5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B42-4E80-4F77-B981-8B907487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456-D7F8-405B-A160-2A3178D6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5F2-8AB2-4E67-809D-FDA35309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4CF-6C95-4125-84C1-05D08CD8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0E7-D195-4641-B804-D9C5272A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7AF-F362-416D-8323-E17541EB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4B0-930D-4F6D-9EF8-75D4A119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3F4-6B79-468F-B6F4-82B209F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1DC-F982-4506-96BF-6F7AFCD0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AB8F1-C4F0-406D-9319-16EBF09176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