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75718"/>
        <c:axId val="67273320"/>
      </c:barChart>
      <c:catAx>
        <c:axId val="40175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73320"/>
        <c:crosses val="autoZero"/>
        <c:auto val="1"/>
        <c:lblAlgn val="ctr"/>
        <c:lblOffset val="100"/>
        <c:noMultiLvlLbl val="0"/>
      </c:catAx>
      <c:valAx>
        <c:axId val="67273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75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FE7-69A9-4EC1-9D71-1F1D7EB3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8AF-2C11-41DD-A0E0-EDC156C9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01E-14D1-4529-8179-C310E60F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7F4-026F-431E-8A20-32AF937C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4C0-7A65-4CB2-BD17-FB282524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92D-894C-4FFF-A891-2FAE48A5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407-8A0F-4CB2-B904-E54CD338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ACB-2BDA-4705-BA05-2C00ABCD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914-42CE-4E7A-9CC7-D5D192F3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0C2-8679-4BDC-9EF1-B5BE71AD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38E-3DC1-467F-8969-2CFD4D96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FA6-F08D-4175-8612-26704EE2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65954-3643-4F1D-A495-81EA66B3DA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