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7900"/>
        <c:axId val="6035933"/>
      </c:barChart>
      <c:catAx>
        <c:axId val="7507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5933"/>
        <c:crosses val="autoZero"/>
        <c:auto val="1"/>
        <c:lblAlgn val="ctr"/>
        <c:lblOffset val="100"/>
        <c:noMultiLvlLbl val="0"/>
      </c:catAx>
      <c:valAx>
        <c:axId val="6035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7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DC4C-4C75-4BA3-8B44-AB6BFEF7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F337-BC78-4233-8798-BF3E1834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5EC-0E22-45C8-97B1-F446B040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692-BEB0-4247-B426-51A0F263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442-6EAF-44F5-B9EA-025B2733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BC2-7E8F-440E-B20D-210608C7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164-7AE6-41F7-AECF-DC6B8F83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B92-6F0F-43C7-9FCC-76218CD9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902-AE9E-4B34-A5DC-F677FD9E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B43-B68F-4C8D-A24B-507E2000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210-A821-463F-B3A7-B93B18BC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B90-BD8C-4211-A50C-65F35833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84E5E-FA38-4909-BCE2-BF296BD736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