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09957"/>
        <c:axId val="81723972"/>
      </c:barChart>
      <c:catAx>
        <c:axId val="22309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3972"/>
        <c:crosses val="autoZero"/>
        <c:auto val="1"/>
        <c:lblAlgn val="ctr"/>
        <c:lblOffset val="100"/>
        <c:noMultiLvlLbl val="0"/>
      </c:catAx>
      <c:valAx>
        <c:axId val="81723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9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1AE-6F4C-4F46-8826-2DA83F0C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035-6FDA-4D98-9672-0BF270D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5EE-3D39-4807-900A-9401B45E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05B-5CB7-4602-A95E-479F764F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1C0-04FF-4A3B-92E3-D1E6332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97E-0A10-4F87-A495-AD88FD5C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989-D3D8-4CBA-95E7-F0A0601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C88-0373-406E-B5BC-309A1AC8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E41-1A7A-4571-9CBF-918B108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F1F-062B-4D6F-81EC-DD8AF29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767-1196-4E6B-904F-484B036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ED0-6368-49DD-80A4-CCDC5A1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56846-C4A2-45B2-BA6C-B169BAA071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