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1604"/>
        <c:axId val="89735065"/>
      </c:barChart>
      <c:catAx>
        <c:axId val="2151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35065"/>
        <c:crosses val="autoZero"/>
        <c:auto val="1"/>
        <c:lblAlgn val="ctr"/>
        <c:lblOffset val="100"/>
        <c:noMultiLvlLbl val="0"/>
      </c:catAx>
      <c:valAx>
        <c:axId val="89735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1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6B4-2BC2-42E8-AD4B-938CD2A7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8C6-79A1-4A57-B983-F934F79D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4AC-277D-43D7-95CA-74561686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30D-9745-40E9-9B9E-08BA52DC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D0B-EDAF-4CC7-8D1A-9B5473BF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6A0-77E8-4BC0-BA66-1214E2D1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B70-F2F4-4BD5-B5F5-BEE276CF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537-4BAA-4921-9A88-AFB47BE3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78F-DEE8-4860-AC39-61939FD2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015-C95F-4BB3-ADF3-3DF9E631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A55-684A-4821-B209-C30C864B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C47-153D-4A68-A9C0-5B64FCD9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1D5D1-F5E5-4CCE-9617-834A85A570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