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23748"/>
        <c:axId val="69378536"/>
      </c:barChart>
      <c:catAx>
        <c:axId val="40023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8536"/>
        <c:crosses val="autoZero"/>
        <c:auto val="1"/>
        <c:lblAlgn val="ctr"/>
        <c:lblOffset val="100"/>
        <c:noMultiLvlLbl val="0"/>
      </c:catAx>
      <c:valAx>
        <c:axId val="6937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23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C71-F929-461C-A63E-6C316D03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163-EBA0-479F-A523-83FDC704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D03-FB2D-41EC-A3C9-6DF56748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6F0-16CD-488C-8565-5D32F14F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08F-F9E5-4479-892F-58CC2F7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C8C-515E-4291-8850-E6E645E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403-3A16-4BC7-B4DC-93081E39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60E-B4F0-4D6A-8CFA-5BF37DD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31D-1044-4CDC-A9A4-9CADE64A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38B-A52C-4BA7-83F9-AC6CD710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D8B-3FCD-4C7C-B11C-89494C0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FA8-7568-4658-A9EA-2166589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916E-8A0D-4761-8ED8-C3EEFD2B5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