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11518"/>
        <c:axId val="37372908"/>
      </c:barChart>
      <c:catAx>
        <c:axId val="27711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72908"/>
        <c:crosses val="autoZero"/>
        <c:auto val="1"/>
        <c:lblAlgn val="ctr"/>
        <c:lblOffset val="100"/>
        <c:noMultiLvlLbl val="0"/>
      </c:catAx>
      <c:valAx>
        <c:axId val="37372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11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2EEE-AE4D-4732-8B3A-44B93681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518-EDB2-4A39-9511-D94EDE34E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B5C-FD17-4D67-A36A-2CF0D6587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A04-8F7F-4164-A5A8-6EA50949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11E4-A47E-4856-B20A-CAB8E84B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3A9E-1E2E-4FA9-9303-73BF904B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756-CC32-4C6B-B3C5-071437D5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6A68-14BA-403C-83E9-033CC747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7D8A-AA5F-42DD-94E2-F4451E4A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132-24A9-4BB8-A4A9-EFC519E1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6EA4-7B8A-4B13-A926-D57C2B48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9A36-2491-4E38-AAEB-D9A3268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D43D4-A225-4551-8196-8C8B576CF5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