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84133"/>
        <c:axId val="89799121"/>
      </c:barChart>
      <c:catAx>
        <c:axId val="68584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9121"/>
        <c:crosses val="autoZero"/>
        <c:auto val="1"/>
        <c:lblAlgn val="ctr"/>
        <c:lblOffset val="100"/>
        <c:noMultiLvlLbl val="0"/>
      </c:catAx>
      <c:valAx>
        <c:axId val="89799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4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6F0-AB9C-4E64-8885-07685A6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69F-4002-4721-A5F9-DF9DE054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E27-D667-48AB-B2C3-3BAD47FC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704-43F5-49D9-9779-E6E2D118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50E-96ED-4AF7-9FD9-90B66A0D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C6E-6BE1-4F49-BBD9-E8E8323E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C82-3FFE-4A7B-B5C1-499570E5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06D-302B-4408-9B11-46615AE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B98-3046-431C-9405-76C0E13E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21A-941B-4F8E-AFB2-0324C334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114-E090-4893-A099-0F0B114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2B1-227D-4155-889B-3BEC4DC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080BE-6021-4E2F-AFD6-4D92D12BD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