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03133"/>
        <c:axId val="74365739"/>
      </c:barChart>
      <c:catAx>
        <c:axId val="4920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5739"/>
        <c:crosses val="autoZero"/>
        <c:auto val="1"/>
        <c:lblAlgn val="ctr"/>
        <c:lblOffset val="100"/>
        <c:noMultiLvlLbl val="0"/>
      </c:catAx>
      <c:valAx>
        <c:axId val="74365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0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07F-D3CD-416F-B9C9-DD692953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A31-D0C0-49BE-8376-4BF74744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DDC-5F00-40E8-85FF-F399C8AB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EF6-F35E-423F-B5BD-8E6D71D4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27C-BACA-458A-93C5-C9C9C75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DD0-93DB-4261-BE33-2844F5FE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AD4-4F14-49C2-BBE1-2E60AEE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983-EA97-47E9-AFBF-AD110E8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5CC-54ED-4CB8-BDD3-32D043A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A9F-A915-4953-8DEA-EB89D1D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811-2213-4DDC-9302-C0E377A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595-C008-4F63-A090-19D939D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6D098-88F2-40FB-A65E-3D21D6E397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