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45941"/>
        <c:axId val="33256561"/>
      </c:barChart>
      <c:catAx>
        <c:axId val="45845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56561"/>
        <c:crosses val="autoZero"/>
        <c:auto val="1"/>
        <c:lblAlgn val="ctr"/>
        <c:lblOffset val="100"/>
        <c:noMultiLvlLbl val="0"/>
      </c:catAx>
      <c:valAx>
        <c:axId val="33256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45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969-FBE7-4AA3-8D56-1694E3F0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567-890B-42D7-B798-0898EF64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DB9-3B34-4618-91F6-05E1D1A6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0FA-CA18-4BE9-826C-CEA46879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DD9-26D1-4C46-BF8A-8051F869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984-5F6B-4AA0-9C13-A02FEFCF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5DB-D113-45B6-8AE9-432194D4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CB4-4A2E-4A5F-B8CE-DBC1F395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740-D868-4752-B0F7-CA7149E3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92F-3348-47E9-AFA9-BAB546E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745-209F-4E3A-873D-7FD93BA8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A40-E491-4F39-979F-685CC7D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168EB-DE53-4EEA-A20E-C9FDD9155B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