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23517"/>
        <c:axId val="59426116"/>
      </c:barChart>
      <c:catAx>
        <c:axId val="92123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26116"/>
        <c:crosses val="autoZero"/>
        <c:auto val="1"/>
        <c:lblAlgn val="ctr"/>
        <c:lblOffset val="100"/>
        <c:noMultiLvlLbl val="0"/>
      </c:catAx>
      <c:valAx>
        <c:axId val="59426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3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148-D768-4AD1-8B99-A4A54F50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6AB-84E3-46BD-B3BB-498EF750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9C5-819E-4D81-9CFC-BD040EC2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4F0-98EF-48F3-97A4-CB13166E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B44-5891-4ED1-819E-2ED4E2B0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566-E657-46B6-922A-247BE25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76A-CEC1-456B-BA60-5323F1A3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4AC-175D-4139-AFE8-6132F0A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58C-A41B-45FF-AB97-0F8E1362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0FC-9C1A-464B-9A0F-04BF152F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C38-46EC-4914-A885-1C14EA3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811-ABDE-4471-B929-0372188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A94EA-061B-450D-A241-2097D3B75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