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52777"/>
        <c:axId val="7892143"/>
      </c:barChart>
      <c:catAx>
        <c:axId val="80752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2143"/>
        <c:crosses val="autoZero"/>
        <c:auto val="1"/>
        <c:lblAlgn val="ctr"/>
        <c:lblOffset val="100"/>
        <c:noMultiLvlLbl val="0"/>
      </c:catAx>
      <c:valAx>
        <c:axId val="7892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52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011-3D47-4CA2-B13D-0399381B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A10-85AE-44CB-9319-990FC77F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72E-F724-4F6E-B0A5-3CEF38F0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781-E9E0-44F4-9E31-1DD24858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679-AA10-4EDC-9D52-A9812B2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8A1-41B7-466F-832B-3AB6DFBD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3AD-DC02-4CF8-B254-FB12C220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B11-B8E4-49AF-BD65-141A3F40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395-284E-47A5-9309-9EA75A2C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96E-A9F5-48B8-9FDD-C6D0A075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17D-F47D-49F7-A1B1-6F131944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7B9-8C75-41FF-9D4B-ABE4C3AD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492DA-94DA-4705-8884-F21651BF47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