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04586"/>
        <c:axId val="84741374"/>
      </c:barChart>
      <c:catAx>
        <c:axId val="37004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41374"/>
        <c:crosses val="autoZero"/>
        <c:auto val="1"/>
        <c:lblAlgn val="ctr"/>
        <c:lblOffset val="100"/>
        <c:noMultiLvlLbl val="0"/>
      </c:catAx>
      <c:valAx>
        <c:axId val="84741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04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DF1-173C-4BC5-BCC6-04C55393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63F-5439-4F26-8E95-583356AA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7B0-7E16-4EC5-90DB-2AF92760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952-70E3-4E52-8F21-280E5669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AA9-DBFD-4209-98AF-34803F45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73A-B915-4502-B63F-723CAE33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26A-1838-435E-B610-35381F75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D84-508F-4364-8BA7-E4DFCF1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680-6C1C-4025-9448-8E3D5175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946-6FE8-4A8B-8A9A-0D44888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BCD-D64F-49F5-8D0C-F91DA07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3D8-846F-432B-BFB8-EE41BD6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9631E-7E91-4EBD-B299-1941A20154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