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78121"/>
        <c:axId val="12019050"/>
      </c:barChart>
      <c:catAx>
        <c:axId val="78378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19050"/>
        <c:crosses val="autoZero"/>
        <c:auto val="1"/>
        <c:lblAlgn val="ctr"/>
        <c:lblOffset val="100"/>
        <c:noMultiLvlLbl val="0"/>
      </c:catAx>
      <c:valAx>
        <c:axId val="12019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78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ABB-0591-4DFD-83B1-DB27E85B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B8E-C712-469B-A694-09041D24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5EF-CD88-4175-B053-FB230D8D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8D5-2CF3-49D4-85D2-ABA6B5BD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FBA-FA6F-4C35-8F84-D54734B1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286-82B2-4E89-A753-D2C22CFC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2D5-6355-4D40-942A-55347DB8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F54-488A-466A-917F-21F924FF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EA4-B7B8-4C83-941E-766CB8DB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593-AF91-4810-8D5F-4FD4B070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DEB-04D3-4FEE-979D-FD9F6B1A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E8A-3919-4F68-8E98-A2A81FE8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62614-2F9D-44E6-8885-DA7D0072F2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