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125428"/>
        <c:axId val="60460200"/>
      </c:barChart>
      <c:catAx>
        <c:axId val="621254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460200"/>
        <c:crosses val="autoZero"/>
        <c:auto val="1"/>
        <c:lblAlgn val="ctr"/>
        <c:lblOffset val="100"/>
        <c:noMultiLvlLbl val="0"/>
      </c:catAx>
      <c:valAx>
        <c:axId val="604602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1254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0D15-15AC-4E70-9D76-990B009B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AA3E-6044-4643-9C00-055BF405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74E8-6FAA-498C-893D-661DEFFA1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0D0B-18BA-4F11-8636-14FB8C87C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D12B-E473-40AE-988C-425D4363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61E7-98A1-4317-A28D-23D683A9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7C1C-1122-4EC3-A0FF-45FD1409D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AD67-953A-416B-B77D-D4E25D19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F6F0-360B-4C5D-9338-909D8227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8777-192A-445F-8A92-CD433718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D91-4CB1-4DC4-89B9-F95666B6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23370-62C7-4E32-9246-84B077D6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EC1C2-9554-41BB-9A9E-76C8B75D47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