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046641"/>
        <c:axId val="49401014"/>
      </c:barChart>
      <c:catAx>
        <c:axId val="280466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401014"/>
        <c:crosses val="autoZero"/>
        <c:auto val="1"/>
        <c:lblAlgn val="ctr"/>
        <c:lblOffset val="100"/>
        <c:noMultiLvlLbl val="0"/>
      </c:catAx>
      <c:valAx>
        <c:axId val="494010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0466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BA4D-BEF9-46E8-ADCE-D38EE16FC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0A5E-B089-4235-9521-B1AEAB295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0CE7-D13D-4CD3-B6AB-33B53F4E4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7665-618D-4567-AAF2-F4B00C3E0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1A3A-A8FF-4342-8445-AB5225504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CB95-A058-44FD-9702-F096CB588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E884-F501-4338-9C77-37E232985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5443-4589-4391-8D45-ACFE081C0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0A00-14EF-41D1-9F7B-77E9E7C4F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4D65-9B0B-4D4B-B97B-22508598E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3E30-C48F-4768-A8C7-3DAB1405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9C92-4BB3-48B6-9409-24587050B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B7FEAF-CB18-469F-A3A0-B4DA16A8690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