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84709"/>
        <c:axId val="30647456"/>
      </c:barChart>
      <c:catAx>
        <c:axId val="95984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47456"/>
        <c:crosses val="autoZero"/>
        <c:auto val="1"/>
        <c:lblAlgn val="ctr"/>
        <c:lblOffset val="100"/>
        <c:noMultiLvlLbl val="0"/>
      </c:catAx>
      <c:valAx>
        <c:axId val="30647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84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BC7-FCF7-4B9D-91FD-7A7C979B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140-3873-4EFB-9CF4-1A3F6C75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189-A0C5-457E-BEF7-939D9759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C94-2D8B-4624-B733-84C2628A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5BF-DC8B-4C2D-AC6D-4A9A30CC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3CC-6F41-4EC2-8965-D2A866EA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903-A5B3-4909-A790-19B9333E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1E3-C353-4AFF-82FC-B36BD4FD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6C2-B787-482F-A965-E35F8B43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C51-8073-4C72-B90F-EBA77F5C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2F2-0C9E-4404-80DC-C73ABF74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2C7-8861-4004-B00F-2338061D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E70DA-4987-4BC9-9C85-BF9E267968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